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wmf" ContentType="image/x-wmf"/>
  <Override PartName="/ppt/media/image20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68DF-3D28-4F1A-ADAF-383EFAAE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28E-AD61-4460-A7AB-77DDBA32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2FFD-08ED-4A3B-A01F-61A3F184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608-DC6C-428F-A3B6-BDAA346C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3D4C-A309-430A-9D92-D5085289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7810-5192-45D3-A276-299B0EA1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3778-E8C8-4160-9CD3-2076D388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7218-2472-4DA0-904F-9CD7620E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6220-2ECC-4DDC-83E5-97A65189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07BC-58D0-448A-8422-36078DFD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3F1E-39B0-488C-A165-3B50A145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8DE-3F2F-452A-BC25-E9A30AAB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EB97-03D4-4016-989D-29000867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580D-4CA9-4F3A-B3E2-0BA7D3E0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A50C-D72E-4C57-B0F4-1446F986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B85F-4B15-46EA-842D-B5D154F9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B58B-19DA-4717-81BE-8067AB12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F1D-4483-4F89-9FCE-B28F755F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1AE-2097-40AD-85A6-B956ECC4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423-E7CB-4D8E-ADB1-FFED4AEB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52E7-E3B0-471A-A4C6-7615DAE0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5B7-3D25-41C6-B315-D7B32648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472-3F9F-4608-A98E-2E4D687E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C895-DDA0-4838-8E66-3484BE19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74D0-DD56-49E9-8946-9A39730846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A732-C6FD-43B6-8F42-A9FBD86AC5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hyperlink" Target="http://moonpans.com/vr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moon-15day-2884-500"/>
          <p:cNvPicPr/>
          <p:nvPr/>
        </p:nvPicPr>
        <p:blipFill>
          <a:blip r:embed="rId1"/>
          <a:stretch/>
        </p:blipFill>
        <p:spPr>
          <a:xfrm>
            <a:off x="3962520" y="1717560"/>
            <a:ext cx="5181480" cy="5140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Moo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Cra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8" name="Picture 4" descr="moon%20%20crater%20(9)%204-13-01_al_st_pr"/>
          <p:cNvPicPr/>
          <p:nvPr/>
        </p:nvPicPr>
        <p:blipFill>
          <a:blip r:embed="rId1"/>
          <a:stretch/>
        </p:blipFill>
        <p:spPr>
          <a:xfrm>
            <a:off x="1371600" y="1271520"/>
            <a:ext cx="6858000" cy="5586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Moon2Large"/>
          <p:cNvPicPr/>
          <p:nvPr/>
        </p:nvPicPr>
        <p:blipFill>
          <a:blip r:embed="rId1"/>
          <a:stretch/>
        </p:blipFill>
        <p:spPr>
          <a:xfrm>
            <a:off x="1828800" y="0"/>
            <a:ext cx="554364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562720" cy="101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Cra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55627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Cra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moon-crater_lg.jp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568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55627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Cra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4058_direct-from-moon-8_04700300.jpg"/>
          <p:cNvPicPr/>
          <p:nvPr/>
        </p:nvPicPr>
        <p:blipFill>
          <a:blip r:embed="rId1"/>
          <a:stretch/>
        </p:blipFill>
        <p:spPr>
          <a:xfrm>
            <a:off x="533520" y="685800"/>
            <a:ext cx="8118360" cy="5181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nasa_moon_crater_302.jpg"/>
          <p:cNvPicPr/>
          <p:nvPr/>
        </p:nvPicPr>
        <p:blipFill>
          <a:blip r:embed="rId1"/>
          <a:stretch/>
        </p:blipFill>
        <p:spPr>
          <a:xfrm>
            <a:off x="99072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0" y="0"/>
            <a:ext cx="55627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Cra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20070328_Copernicus_B_RF_21G700_f1112Locon256map7_40_wvD2_mirror_1011x756.jpg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8687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0" y="0"/>
            <a:ext cx="55627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Cra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Tycho_crater_on_the_Moon.jpg"/>
          <p:cNvPicPr/>
          <p:nvPr/>
        </p:nvPicPr>
        <p:blipFill>
          <a:blip r:embed="rId1"/>
          <a:stretch/>
        </p:blipFill>
        <p:spPr>
          <a:xfrm>
            <a:off x="2590920" y="0"/>
            <a:ext cx="563544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0" y="0"/>
            <a:ext cx="55627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Cra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Moon-craters.jpg"/>
          <p:cNvPicPr/>
          <p:nvPr/>
        </p:nvPicPr>
        <p:blipFill>
          <a:blip r:embed="rId1"/>
          <a:stretch/>
        </p:blipFill>
        <p:spPr>
          <a:xfrm>
            <a:off x="1523880" y="304920"/>
            <a:ext cx="6324840" cy="6180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0" y="0"/>
            <a:ext cx="55627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Cra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un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 word that refers to the mo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que94281_s"/>
          <p:cNvPicPr/>
          <p:nvPr/>
        </p:nvPicPr>
        <p:blipFill>
          <a:blip r:embed="rId1"/>
          <a:stretch/>
        </p:blipFill>
        <p:spPr>
          <a:xfrm>
            <a:off x="304920" y="3124080"/>
            <a:ext cx="4419360" cy="2343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plum_apollo16"/>
          <p:cNvPicPr/>
          <p:nvPr/>
        </p:nvPicPr>
        <p:blipFill>
          <a:blip r:embed="rId2"/>
          <a:stretch/>
        </p:blipFill>
        <p:spPr>
          <a:xfrm>
            <a:off x="4543560" y="2590920"/>
            <a:ext cx="4600440" cy="34002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1981080" y="6172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great image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WordArt 7"/>
          <p:cNvSpPr txBox="1"/>
          <p:nvPr/>
        </p:nvSpPr>
        <p:spPr>
          <a:xfrm>
            <a:off x="1066680" y="2514600"/>
            <a:ext cx="2686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unar ro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WordArt 8"/>
          <p:cNvSpPr txBox="1"/>
          <p:nvPr/>
        </p:nvSpPr>
        <p:spPr>
          <a:xfrm>
            <a:off x="4800600" y="2209680"/>
            <a:ext cx="2857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unar rov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2590920" y="3200400"/>
            <a:ext cx="0" cy="380880"/>
          </a:xfrm>
          <a:prstGeom prst="line">
            <a:avLst/>
          </a:prstGeom>
          <a:ln w="4140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H="1">
            <a:off x="5943600" y="2895480"/>
            <a:ext cx="380880" cy="304920"/>
          </a:xfrm>
          <a:prstGeom prst="line">
            <a:avLst/>
          </a:prstGeom>
          <a:ln w="349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3d.gif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6345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Mo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on is the closest object to the Earth, and the only one that humans have visited, so f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MPj01827690000[1]"/>
          <p:cNvPicPr/>
          <p:nvPr/>
        </p:nvPicPr>
        <p:blipFill>
          <a:blip r:embed="rId1"/>
          <a:stretch/>
        </p:blipFill>
        <p:spPr>
          <a:xfrm>
            <a:off x="4572000" y="2590920"/>
            <a:ext cx="3386160" cy="42670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304920" y="11430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’t copy thi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Mo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photos and the Apollo missions we can learn what the moon is made of and how it was form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MPj02892110000[1]"/>
          <p:cNvPicPr/>
          <p:nvPr/>
        </p:nvPicPr>
        <p:blipFill>
          <a:blip r:embed="rId1"/>
          <a:stretch/>
        </p:blipFill>
        <p:spPr>
          <a:xfrm>
            <a:off x="4572000" y="3124080"/>
            <a:ext cx="4191120" cy="34228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04920" y="11430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’t copy thi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farside"/>
          <p:cNvPicPr/>
          <p:nvPr/>
        </p:nvPicPr>
        <p:blipFill>
          <a:blip r:embed="rId1"/>
          <a:stretch/>
        </p:blipFill>
        <p:spPr>
          <a:xfrm>
            <a:off x="5334120" y="2905200"/>
            <a:ext cx="3413160" cy="3952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Mo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3059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rth’s moon is the only natural satellite orbiting our plan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rotates at the same speed that it orbits the Earth so that the same side of the moon is always facing u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takes the moon 27.3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orbit the Ear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676520" y="48006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ar-side of the Mo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4419720" y="5029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Mo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on’s surface is covered with crater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aters are large, shallow holes in the groun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on craters are formed by meteorites smashing into its surfa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AS15_M3_0599"/>
          <p:cNvPicPr/>
          <p:nvPr/>
        </p:nvPicPr>
        <p:blipFill>
          <a:blip r:embed="rId1"/>
          <a:stretch/>
        </p:blipFill>
        <p:spPr>
          <a:xfrm>
            <a:off x="5638680" y="3962520"/>
            <a:ext cx="2613240" cy="268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eteor 2"/>
          <p:cNvPicPr/>
          <p:nvPr/>
        </p:nvPicPr>
        <p:blipFill>
          <a:blip r:embed="rId2"/>
          <a:stretch/>
        </p:blipFill>
        <p:spPr>
          <a:xfrm>
            <a:off x="-1143000" y="4419720"/>
            <a:ext cx="91440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MCDD00945_0000[1]"/>
          <p:cNvPicPr/>
          <p:nvPr/>
        </p:nvPicPr>
        <p:blipFill>
          <a:blip r:embed="rId3"/>
          <a:stretch/>
        </p:blipFill>
        <p:spPr>
          <a:xfrm>
            <a:off x="5410080" y="4624560"/>
            <a:ext cx="2438640" cy="2233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1.84971E-006 L 0.775 0.17757 E">
                                      <p:cBhvr>
                                        <p:cTn id="69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evt="end">
                                        <p:tn val="68"/>
                                      </p:cond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Cra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aters have six distinguishable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oor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lat bottom of a cr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ll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wl-like sides of a cr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ject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terial thrown out of the cr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copersm"/>
          <p:cNvPicPr/>
          <p:nvPr/>
        </p:nvPicPr>
        <p:blipFill>
          <a:blip r:embed="rId1"/>
          <a:stretch/>
        </p:blipFill>
        <p:spPr>
          <a:xfrm>
            <a:off x="4572000" y="3886200"/>
            <a:ext cx="3381480" cy="2779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 Cra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ised rim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ock thrown out of the crater during impact and left at the crater’s 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ral peak or uplift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mall mountain that forms at the centre of the crater in reaction to the force of imp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y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ght streaks that start at the rim of the crater and extend out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Cra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Picture 4" descr="bullialdus-10"/>
          <p:cNvPicPr/>
          <p:nvPr/>
        </p:nvPicPr>
        <p:blipFill>
          <a:blip r:embed="rId1"/>
          <a:stretch/>
        </p:blipFill>
        <p:spPr>
          <a:xfrm>
            <a:off x="533520" y="762120"/>
            <a:ext cx="8127720" cy="6095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Cra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6" name="Picture 4" descr="moon%20%20crater%20(7)%204-13-01_al_st_pr"/>
          <p:cNvPicPr/>
          <p:nvPr/>
        </p:nvPicPr>
        <p:blipFill>
          <a:blip r:embed="rId1"/>
          <a:stretch/>
        </p:blipFill>
        <p:spPr>
          <a:xfrm>
            <a:off x="1143000" y="1219320"/>
            <a:ext cx="6629400" cy="5406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4:12:08Z</dcterms:created>
  <dc:creator>Teacher</dc:creator>
  <dc:description/>
  <dc:language>en-US</dc:language>
  <cp:lastModifiedBy>Moe</cp:lastModifiedBy>
  <dcterms:modified xsi:type="dcterms:W3CDTF">2010-04-14T19:06:18Z</dcterms:modified>
  <cp:revision>21</cp:revision>
  <dc:subject/>
  <dc:title>The Moon</dc:title>
</cp:coreProperties>
</file>